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4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36.gif" ContentType="image/gif"/>
  <Override PartName="/ppt/media/image40.jpeg" ContentType="image/jpeg"/>
  <Override PartName="/ppt/media/image44.jpeg" ContentType="image/jpeg"/>
  <Override PartName="/ppt/media/image39.png" ContentType="image/png"/>
  <Override PartName="/ppt/media/image9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27.png" ContentType="image/png"/>
  <Override PartName="/ppt/media/image33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C42-7218-4FE1-821C-4F1F17BD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BCB-08B2-4C25-ADE9-3598218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967-16FE-4B1D-B2E8-FB5C515B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9B3-C9F6-4CBE-A0FB-6F08DB28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C4E-82F2-44E8-9AED-9A99433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95C-204E-48EF-8834-78355B0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912-8579-45A9-BF82-7E333622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819-4718-4C3F-B09F-F1C4B941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F2A-83A6-4FCD-B723-F9BABCF5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E86-5AE6-4FDB-9550-19532FD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871-C107-44F9-AFC6-B9ABDD9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A26-5E7A-4E60-8DB3-32225FBB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27C9-FBC6-4EE3-BDA9-69B9DE352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9.WAV" TargetMode="External"/><Relationship Id="rId4" Type="http://schemas.microsoft.com/office/2007/relationships/media" Target="file:///tmp/home/.config/libreoffice/4/user/gallery/9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10.WAV" TargetMode="External"/><Relationship Id="rId4" Type="http://schemas.microsoft.com/office/2007/relationships/media" Target="file:///tmp/home/.config/libreoffice/4/user/gallery/10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11.WAV" TargetMode="External"/><Relationship Id="rId4" Type="http://schemas.microsoft.com/office/2007/relationships/media" Target="file:///tmp/home/.config/libreoffice/4/user/gallery/11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12.WAV" TargetMode="External"/><Relationship Id="rId4" Type="http://schemas.microsoft.com/office/2007/relationships/media" Target="file:///tmp/home/.config/libreoffice/4/user/gallery/12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ListeningA1.wav" TargetMode="External"/><Relationship Id="rId4" Type="http://schemas.microsoft.com/office/2007/relationships/media" Target="file:///tmp/home/.config/libreoffice/4/user/gallery/ListeningA1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2.png"/><Relationship Id="rId4" Type="http://schemas.openxmlformats.org/officeDocument/2006/relationships/audio" Target="file:///tmp/home/.config/libreoffice/4/user/gallery/PracticeB1.wav" TargetMode="External"/><Relationship Id="rId5" Type="http://schemas.microsoft.com/office/2007/relationships/media" Target="file:///tmp/home/.config/libreoffice/4/user/gallery/PracticeB1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3.jpeg"/><Relationship Id="rId4" Type="http://schemas.openxmlformats.org/officeDocument/2006/relationships/audio" Target="file:///tmp/home/.config/libreoffice/4/user/gallery/PracticeB3.wav" TargetMode="External"/><Relationship Id="rId5" Type="http://schemas.microsoft.com/office/2007/relationships/media" Target="file:///tmp/home/.config/libreoffice/4/user/gallery/PracticeB3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2.png"/><Relationship Id="rId4" Type="http://schemas.openxmlformats.org/officeDocument/2006/relationships/audio" Target="file:///tmp/home/.config/libreoffice/4/user/gallery/B10.wav" TargetMode="External"/><Relationship Id="rId5" Type="http://schemas.microsoft.com/office/2007/relationships/media" Target="file:///tmp/home/.config/libreoffice/4/user/gallery/B10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3.jpeg"/><Relationship Id="rId4" Type="http://schemas.openxmlformats.org/officeDocument/2006/relationships/audio" Target="file:///tmp/home/.config/libreoffice/4/user/gallery/PracticeB7.wav" TargetMode="External"/><Relationship Id="rId5" Type="http://schemas.microsoft.com/office/2007/relationships/media" Target="file:///tmp/home/.config/libreoffice/4/user/gallery/PracticeB7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kingsunsoft.com/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2.WAV" TargetMode="External"/><Relationship Id="rId4" Type="http://schemas.microsoft.com/office/2007/relationships/media" Target="file:///tmp/home/.config/libreoffice/4/user/gallery/2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3.WAV" TargetMode="External"/><Relationship Id="rId4" Type="http://schemas.microsoft.com/office/2007/relationships/media" Target="file:///tmp/home/.config/libreoffice/4/user/gallery/3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4.WAV" TargetMode="External"/><Relationship Id="rId4" Type="http://schemas.microsoft.com/office/2007/relationships/media" Target="file:///tmp/home/.config/libreoffice/4/user/gallery/4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5.WAV" TargetMode="External"/><Relationship Id="rId4" Type="http://schemas.microsoft.com/office/2007/relationships/media" Target="file:///tmp/home/.config/libreoffice/4/user/gallery/5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hyperlink" Target="http://www.kingsunsoft.com/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6.WAV" TargetMode="External"/><Relationship Id="rId4" Type="http://schemas.microsoft.com/office/2007/relationships/media" Target="file:///tmp/home/.config/libreoffice/4/user/gallery/6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7.WAV" TargetMode="External"/><Relationship Id="rId4" Type="http://schemas.microsoft.com/office/2007/relationships/media" Target="file:///tmp/home/.config/libreoffice/4/user/gallery/7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8.WAV" TargetMode="External"/><Relationship Id="rId4" Type="http://schemas.microsoft.com/office/2007/relationships/media" Target="file:///tmp/home/.config/libreoffice/4/user/gallery/8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268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ur birth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38280" y="3336840"/>
            <a:ext cx="4038840" cy="1082880"/>
            <a:chOff x="2438280" y="3336840"/>
            <a:chExt cx="4038840" cy="1082880"/>
          </a:xfrm>
        </p:grpSpPr>
        <p:sp>
          <p:nvSpPr>
            <p:cNvPr id="91" name=""/>
            <p:cNvSpPr/>
            <p:nvPr/>
          </p:nvSpPr>
          <p:spPr>
            <a:xfrm>
              <a:off x="3505320" y="3336840"/>
              <a:ext cx="2590560" cy="1008360"/>
            </a:xfrm>
            <a:prstGeom prst="rect">
              <a:avLst/>
            </a:prstGeom>
            <a:solidFill>
              <a:srgbClr val="377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ugus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6172200" y="3733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2438280" y="335268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81080" y="3429000"/>
            <a:ext cx="5791320" cy="1219320"/>
            <a:chOff x="1981080" y="3429000"/>
            <a:chExt cx="5791320" cy="1219320"/>
          </a:xfrm>
        </p:grpSpPr>
        <p:sp>
          <p:nvSpPr>
            <p:cNvPr id="97" name=""/>
            <p:cNvSpPr/>
            <p:nvPr/>
          </p:nvSpPr>
          <p:spPr>
            <a:xfrm>
              <a:off x="3352680" y="3505320"/>
              <a:ext cx="3962520" cy="100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6000" spc="-1" strike="noStrike">
                  <a:solidFill>
                    <a:srgbClr val="336600"/>
                  </a:solidFill>
                  <a:latin typeface="Arial"/>
                </a:rPr>
                <a:t>eptemb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7467480" y="3886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1981080" y="3429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52680" y="51055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14600" y="3336840"/>
            <a:ext cx="4495680" cy="1235160"/>
            <a:chOff x="2514600" y="3336840"/>
            <a:chExt cx="4495680" cy="1235160"/>
          </a:xfrm>
        </p:grpSpPr>
        <p:sp>
          <p:nvSpPr>
            <p:cNvPr id="103" name=""/>
            <p:cNvSpPr/>
            <p:nvPr/>
          </p:nvSpPr>
          <p:spPr>
            <a:xfrm>
              <a:off x="3733920" y="3336840"/>
              <a:ext cx="2895480" cy="100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ctob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6705720" y="37940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2514600" y="335268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2680" y="51055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3276720"/>
            <a:ext cx="5181840" cy="1143000"/>
            <a:chOff x="2438280" y="3276720"/>
            <a:chExt cx="5181840" cy="1143000"/>
          </a:xfrm>
        </p:grpSpPr>
        <p:sp>
          <p:nvSpPr>
            <p:cNvPr id="109" name=""/>
            <p:cNvSpPr/>
            <p:nvPr/>
          </p:nvSpPr>
          <p:spPr>
            <a:xfrm>
              <a:off x="3505320" y="3276720"/>
              <a:ext cx="3809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6000" spc="-1" strike="noStrike">
                  <a:solidFill>
                    <a:srgbClr val="ff99cc"/>
                  </a:solidFill>
                  <a:latin typeface="Arial"/>
                </a:rPr>
                <a:t>ovemb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7315200" y="3733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2438280" y="335268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76720" y="510552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52480" y="3048120"/>
            <a:ext cx="5867640" cy="1676160"/>
            <a:chOff x="1752480" y="3048120"/>
            <a:chExt cx="5867640" cy="1676160"/>
          </a:xfrm>
        </p:grpSpPr>
        <p:sp>
          <p:nvSpPr>
            <p:cNvPr id="115" name=""/>
            <p:cNvSpPr/>
            <p:nvPr/>
          </p:nvSpPr>
          <p:spPr>
            <a:xfrm>
              <a:off x="3124080" y="3489480"/>
              <a:ext cx="4114800" cy="100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바탕"/>
                </a:rPr>
                <a:t>D</a:t>
              </a: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바탕"/>
                </a:rPr>
                <a:t>ecembe</a:t>
              </a: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바탕"/>
                </a:rPr>
                <a:t>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7315200" y="3946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1752480" y="304812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6248520" cy="617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00200" y="5562720"/>
            <a:ext cx="609588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ngo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32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1666800" cy="476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86200" y="342900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바탕"/>
                <a:ea typeface="바탕"/>
              </a:rPr>
              <a:t>Let’s liste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这里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486400"/>
            <a:ext cx="53352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Can you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 Pat’s ha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month are there? What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010280" y="457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14600" y="762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Let’s judg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7432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at’s birthday is in Febru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620120" y="34290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2971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27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14600" y="762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Let’s judg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Sam’s birthday is in Apr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238880" y="3352680"/>
            <a:ext cx="1524240" cy="1067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080" y="2743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08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96276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524196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song for you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这里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01000" y="57150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14600" y="762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Let’s judg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7432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John’s birthday is in Ju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20120" y="34290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2895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07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3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14600" y="762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Let’s judg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Bob’s birthday is in Octo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238880" y="3352680"/>
            <a:ext cx="152424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09480" y="2895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02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8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5092920" cy="6248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22860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Arial"/>
                <a:ea typeface="바탕"/>
              </a:rPr>
              <a:t>Let’s cha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21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19320" y="9144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儿歌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  Month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》月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January,Febru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March,April,May,and Ju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July,August,Septemb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October,November,Decemb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January,Febru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March,April,May,and Ju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July,August,Septemb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October,November,Dec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14600" y="6858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810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. Revise the months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200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. Recite the dialogue of part 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2600" y="0"/>
            <a:ext cx="14284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62320" y="3809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ur birthday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281952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Arial"/>
              </a:rPr>
              <a:t>Primary English for China   Book 7    Un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4648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rt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6095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南山实验学校南头部  赵素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6410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487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52480" y="25146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  <a:ea typeface="바탕"/>
              </a:rPr>
              <a:t>Break my cod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18892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바탕"/>
                <a:ea typeface="바탕"/>
              </a:rPr>
              <a:t>BURAFEY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533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바탕"/>
                <a:ea typeface="바탕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051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바탕"/>
                <a:ea typeface="바탕"/>
              </a:rPr>
              <a:t>Febr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32608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바탕"/>
                <a:ea typeface="바탕"/>
              </a:rPr>
              <a:t>YU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2767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바탕"/>
                <a:ea typeface="바탕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64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바탕"/>
                <a:ea typeface="바탕"/>
              </a:rPr>
              <a:t>TOOBC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4632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바탕"/>
                <a:ea typeface="바탕"/>
              </a:rPr>
              <a:t>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762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574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3429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4800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609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바탕"/>
                <a:ea typeface="바탕"/>
              </a:rPr>
              <a:t>GASTU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90720" y="152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’s your birth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352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like to have a birthday party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438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do on your birth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Welcome to our chat 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057400" y="3124080"/>
            <a:ext cx="5181120" cy="1313280"/>
            <a:chOff x="2057400" y="3124080"/>
            <a:chExt cx="5181120" cy="1313280"/>
          </a:xfrm>
        </p:grpSpPr>
        <p:sp>
          <p:nvSpPr>
            <p:cNvPr id="49" name=""/>
            <p:cNvSpPr/>
            <p:nvPr/>
          </p:nvSpPr>
          <p:spPr>
            <a:xfrm>
              <a:off x="3352680" y="3429000"/>
              <a:ext cx="3387600" cy="1008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MS Mincho"/>
                </a:rPr>
                <a:t>J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anuar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6840000" y="3733560"/>
              <a:ext cx="3985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2057400" y="3124080"/>
              <a:ext cx="15940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209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When’s the Grandma</a:t>
            </a: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’s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81680" y="5105520"/>
            <a:ext cx="1295640" cy="1009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3520" y="3581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t’s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 Sept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这里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80880"/>
            <a:ext cx="79246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isten and find 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080" y="3048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Let’s practic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429000"/>
            <a:ext cx="1828800" cy="1219320"/>
          </a:xfrm>
          <a:prstGeom prst="wedgeEllipseCallout">
            <a:avLst>
              <a:gd name="adj1" fmla="val 55643"/>
              <a:gd name="adj2" fmla="val 4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533520"/>
            <a:ext cx="1523880" cy="1828800"/>
          </a:xfrm>
          <a:prstGeom prst="wedgeEllipseCallout">
            <a:avLst>
              <a:gd name="adj1" fmla="val 64375"/>
              <a:gd name="adj2" fmla="val 80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219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928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84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7264440" cy="5867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3505320"/>
            <a:ext cx="1905120" cy="1143000"/>
          </a:xfrm>
          <a:prstGeom prst="wedgeRoundRectCallout">
            <a:avLst>
              <a:gd name="adj1" fmla="val 52083"/>
              <a:gd name="adj2" fmla="val 90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295280"/>
            <a:ext cx="1904760" cy="1143000"/>
          </a:xfrm>
          <a:prstGeom prst="wedgeRoundRectCallout">
            <a:avLst>
              <a:gd name="adj1" fmla="val 42916"/>
              <a:gd name="adj2" fmla="val 127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1600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9144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794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3019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7391160" cy="5867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3200400"/>
            <a:ext cx="1600200" cy="1066680"/>
          </a:xfrm>
          <a:prstGeom prst="wedgeRoundRectCallout">
            <a:avLst>
              <a:gd name="adj1" fmla="val 57240"/>
              <a:gd name="adj2" fmla="val 82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990720"/>
            <a:ext cx="1600200" cy="1066680"/>
          </a:xfrm>
          <a:prstGeom prst="wedgeRoundRectCallout">
            <a:avLst>
              <a:gd name="adj1" fmla="val 51787"/>
              <a:gd name="adj2" fmla="val 125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9240" y="1219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4100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11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68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7135920" cy="6248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048120"/>
            <a:ext cx="1981080" cy="1447560"/>
          </a:xfrm>
          <a:prstGeom prst="wedgeEllipseCallout">
            <a:avLst>
              <a:gd name="adj1" fmla="val 61699"/>
              <a:gd name="adj2" fmla="val 49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838080"/>
            <a:ext cx="2133720" cy="1295640"/>
          </a:xfrm>
          <a:prstGeom prst="wedgeEllipseCallout">
            <a:avLst>
              <a:gd name="adj1" fmla="val 31250"/>
              <a:gd name="adj2" fmla="val 98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0560" y="35053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45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32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05120" y="60948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581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 Ask for four friends’ birthday  and make a birthday calen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43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Recite the  dialogues of B1 and B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809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ur birthday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28600" y="281952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Arial"/>
              </a:rPr>
              <a:t>Primary English for China   Book 7    Un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rt B2&amp;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6095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南山实验学校南头部  赵素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19320" y="3886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ff"/>
                </a:solidFill>
                <a:latin typeface="Arial"/>
              </a:rPr>
              <a:t>Let’s sing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ff"/>
                </a:solidFill>
                <a:latin typeface="Arial"/>
              </a:rPr>
              <a:t>点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38080" y="12193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Guess Miss Zhao’s birthd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28954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t is in the same month with the National D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09680" y="3429000"/>
            <a:ext cx="5333400" cy="1068840"/>
            <a:chOff x="2209680" y="3429000"/>
            <a:chExt cx="5333400" cy="1068840"/>
          </a:xfrm>
        </p:grpSpPr>
        <p:sp>
          <p:nvSpPr>
            <p:cNvPr id="55" name=""/>
            <p:cNvSpPr/>
            <p:nvPr/>
          </p:nvSpPr>
          <p:spPr>
            <a:xfrm>
              <a:off x="3489840" y="3489480"/>
              <a:ext cx="3520440" cy="1008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ebruar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7116480" y="3718080"/>
              <a:ext cx="4266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2209680" y="3429000"/>
              <a:ext cx="12801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1960" y="152280"/>
            <a:ext cx="8560080" cy="6477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343400" y="3124080"/>
            <a:ext cx="228600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71600" y="11271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your birthday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251460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it is./ No, it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9480" y="7621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of saying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October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2362320"/>
            <a:ext cx="647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1337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0574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seventee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32767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3276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the seventee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4956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44956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venteenth of Octob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52480" y="30481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276720" y="2971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Work in pairs and guess each other’s birth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762120" y="266760"/>
            <a:ext cx="1600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4716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出下列词的序数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1752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178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1752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7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7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09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840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809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609480" y="266760"/>
            <a:ext cx="1600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808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出下列词的序数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1432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1432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666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6510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946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3946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elf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1432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1447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enti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2590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2590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ti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48120" y="16765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n to pag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3124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Arial"/>
              </a:rPr>
              <a:t>Listen and cir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905120" y="60948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429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 Guess three strangers birthday and make a table of the result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362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Recite the  dialogues of B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62320" y="3809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ur birthday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28600" y="281952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Arial"/>
              </a:rPr>
              <a:t>Primary English for China   Book 7    Un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rt 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6095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南山实验学校南头部  赵素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38280" y="3352680"/>
            <a:ext cx="4606200" cy="1175040"/>
            <a:chOff x="2438280" y="3352680"/>
            <a:chExt cx="4606200" cy="1175040"/>
          </a:xfrm>
        </p:grpSpPr>
        <p:sp>
          <p:nvSpPr>
            <p:cNvPr id="61" name=""/>
            <p:cNvSpPr/>
            <p:nvPr/>
          </p:nvSpPr>
          <p:spPr>
            <a:xfrm>
              <a:off x="3898440" y="3519360"/>
              <a:ext cx="2495160" cy="1008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M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rch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6611040" y="3733560"/>
              <a:ext cx="4334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2438280" y="3352680"/>
              <a:ext cx="1460160" cy="102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219320" y="3886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ff"/>
                </a:solidFill>
                <a:latin typeface="Arial"/>
              </a:rPr>
              <a:t>Let’s sing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ff"/>
                </a:solidFill>
                <a:latin typeface="Arial"/>
              </a:rPr>
              <a:t>点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838080"/>
            <a:ext cx="7162920" cy="60199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8160" y="1163520"/>
            <a:ext cx="18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70920" y="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Brain st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7720" y="3048120"/>
            <a:ext cx="377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rth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1905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usan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429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What is Linda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800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When is Great-grandpa’s birth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1295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e is ninety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66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usan/She is coo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4038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Linda/She is pain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t’s/It is on November 1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事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10280" y="5562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old is Great-grandp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32080" y="2056680"/>
            <a:ext cx="80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: It's this mont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r birthday is this month, to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880" y="259020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at's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4960" y="3123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t's November 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5680" y="36568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at are Susan and Linda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040" y="4190400"/>
            <a:ext cx="88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They're busy. Susan's cooking and Linda's painti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960" y="46476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rpris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4960" y="518076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Happy birth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2080" y="5714280"/>
            <a:ext cx="84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Oh, yes!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lly m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's my ninetieth birthday to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43000" y="2724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90520" y="2181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25704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257040" y="3767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243000" y="43005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228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2286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25236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35680" y="3042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How old are you, Har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5320" y="913680"/>
            <a:ext cx="43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'm ten, Great-grandp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4960" y="15231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en's your birthda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3049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tretch/>
        </p:blipFill>
        <p:spPr>
          <a:xfrm>
            <a:off x="3049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202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2833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2973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2410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270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2717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2694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5759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415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5062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302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4343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40600" y="4551480"/>
            <a:ext cx="456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How old are you, Harr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40240" y="505764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'm ten, Great-grand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9880" y="551484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en's your birth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6640" y="6019920"/>
            <a:ext cx="81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t's this month. Your birthday is this month,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238880" cy="4190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143360" y="4600440"/>
            <a:ext cx="42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at's the dat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4800" y="521028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t's November 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6705360" cy="4114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83040" y="4876920"/>
            <a:ext cx="609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at are Susan and Linda do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3240" y="5715000"/>
            <a:ext cx="87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They're busy. Susan's cooking and Linda's pa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5943600" cy="430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32448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ter that d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444816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Surpr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0920" y="498168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Happy birthday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8040" y="5591160"/>
            <a:ext cx="84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Oh, yes!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lly m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's my ninetieth birthday to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57160" y="804960"/>
            <a:ext cx="7429680" cy="5248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514600" y="266688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Role 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666880" y="3429000"/>
            <a:ext cx="3962160" cy="1084320"/>
            <a:chOff x="2666880" y="3429000"/>
            <a:chExt cx="3962160" cy="1084320"/>
          </a:xfrm>
        </p:grpSpPr>
        <p:sp>
          <p:nvSpPr>
            <p:cNvPr id="67" name=""/>
            <p:cNvSpPr/>
            <p:nvPr/>
          </p:nvSpPr>
          <p:spPr>
            <a:xfrm>
              <a:off x="3772440" y="3504960"/>
              <a:ext cx="230364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pri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6260400" y="3809880"/>
              <a:ext cx="36864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2666880" y="3429000"/>
              <a:ext cx="119772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3623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Part C loudly and reci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Part 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47840" y="1866960"/>
            <a:ext cx="847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3809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ur birthday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228600" y="281952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Arial"/>
              </a:rPr>
              <a:t>Primary English for China   Book 7    Un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Part E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G&amp;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6095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南山实验学校南头部  赵素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876920" y="19810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2600" y="0"/>
            <a:ext cx="14284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1800" y="3276720"/>
            <a:ext cx="3809520" cy="1218960"/>
            <a:chOff x="2971800" y="3276720"/>
            <a:chExt cx="3809520" cy="1218960"/>
          </a:xfrm>
        </p:grpSpPr>
        <p:sp>
          <p:nvSpPr>
            <p:cNvPr id="73" name=""/>
            <p:cNvSpPr/>
            <p:nvPr/>
          </p:nvSpPr>
          <p:spPr>
            <a:xfrm>
              <a:off x="4400280" y="3443400"/>
              <a:ext cx="1809720" cy="1008360"/>
            </a:xfrm>
            <a:prstGeom prst="rect">
              <a:avLst/>
            </a:prstGeom>
            <a:solidFill>
              <a:srgbClr val="bbe0e3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a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6400440" y="373392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6"/>
            <a:stretch/>
          </p:blipFill>
          <p:spPr>
            <a:xfrm>
              <a:off x="2971800" y="3276720"/>
              <a:ext cx="152388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95480" y="3276720"/>
            <a:ext cx="3276360" cy="1174680"/>
            <a:chOff x="2895480" y="3276720"/>
            <a:chExt cx="3276360" cy="1174680"/>
          </a:xfrm>
        </p:grpSpPr>
        <p:sp>
          <p:nvSpPr>
            <p:cNvPr id="79" name=""/>
            <p:cNvSpPr/>
            <p:nvPr/>
          </p:nvSpPr>
          <p:spPr>
            <a:xfrm>
              <a:off x="3692160" y="3443040"/>
              <a:ext cx="221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cc33"/>
                  </a:solidFill>
                  <a:latin typeface="Arial"/>
                  <a:ea typeface="바탕"/>
                </a:rPr>
                <a:t> 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바탕"/>
                </a:rPr>
                <a:t>J</a:t>
              </a:r>
              <a:r>
                <a:rPr b="1" lang="en-US" sz="6000" spc="-1" strike="noStrike">
                  <a:solidFill>
                    <a:srgbClr val="33cc33"/>
                  </a:solidFill>
                  <a:latin typeface="Arial"/>
                  <a:ea typeface="바탕"/>
                </a:rPr>
                <a:t>un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5817600" y="3809880"/>
              <a:ext cx="3542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2895480" y="3276720"/>
              <a:ext cx="11512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43200" y="3413160"/>
            <a:ext cx="3124080" cy="1008360"/>
            <a:chOff x="2743200" y="3413160"/>
            <a:chExt cx="3124080" cy="1008360"/>
          </a:xfrm>
        </p:grpSpPr>
        <p:sp>
          <p:nvSpPr>
            <p:cNvPr id="85" name=""/>
            <p:cNvSpPr/>
            <p:nvPr/>
          </p:nvSpPr>
          <p:spPr>
            <a:xfrm>
              <a:off x="3733920" y="341316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00"/>
                  </a:solidFill>
                  <a:latin typeface="Arial"/>
                  <a:ea typeface="바탕"/>
                </a:rPr>
                <a:t>J</a:t>
              </a:r>
              <a:r>
                <a:rPr b="1" lang="en-US" sz="6000" spc="-1" strike="noStrike">
                  <a:solidFill>
                    <a:srgbClr val="ff6699"/>
                  </a:solidFill>
                  <a:latin typeface="Arial"/>
                  <a:ea typeface="바탕"/>
                </a:rPr>
                <a:t>ul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>
              <a:hlinkClick r:id="" action="ppaction://media"/>
            </p:cNvPr>
            <p:cNvPicPr/>
            <p:nvPr>
              <a:audioFile r:link="rId3"/>
              <p:extLst>
                <p:ext uri="{DAA4B4D4-6D71-4841-9C94-3DE7FCFB9230}">
                  <p14:media r:link="rId4"/>
                </p:ext>
              </p:extLst>
            </p:nvPr>
          </p:nvPicPr>
          <p:blipFill>
            <a:blip r:embed="rId5"/>
            <a:stretch>
              <a:fillRect/>
            </a:stretch>
          </p:blipFill>
          <p:spPr>
            <a:xfrm>
              <a:off x="5562720" y="3809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2743200" y="342900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07:38:54Z</dcterms:created>
  <dc:creator>数据驿站</dc:creator>
  <dc:description/>
  <dc:language>en-US</dc:language>
  <cp:lastModifiedBy>fdsfds</cp:lastModifiedBy>
  <dcterms:modified xsi:type="dcterms:W3CDTF">2014-01-01T10:39:0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4f000000000001024120</vt:lpwstr>
  </property>
</Properties>
</file>